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00A-8DDC-4148-98E2-E8146DE1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246-1784-4F76-8F02-F27A3B8A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181-196E-42BA-AF94-2041F9D6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A23-85F9-412B-895E-C8D6B10A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EA8-62F5-472D-8043-B20384A5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B8C-DE27-4375-A41F-F757648D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947-6292-4F2A-855E-FF747A1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B7E-D141-4F11-B5AA-42C78AD9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E56-1C34-4233-9071-06E64AFD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832-165C-4EC7-97D4-72419E0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F66-9EFD-44F0-A89B-76618F4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E2D-FCC2-426C-8464-811C42A5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95C8-8F4D-4C76-B6E4-F2A22188B4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3495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2514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60948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159084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33720" y="4572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 W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ater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and M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nerals 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133720" y="161928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hotosynthes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33720" y="2610000"/>
            <a:ext cx="4190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eproduction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35845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gh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7915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80880" y="6934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0880" y="5029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80880" y="6010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33720" y="48769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W………………………….. and M…………………………….. 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133720" y="60390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133720" y="702936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……………………………………….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133720" y="800424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…………………………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Łącznik prosty ze strzałką 18"/>
          <p:cNvCxnSpPr>
            <a:stCxn id="43" idx="3"/>
            <a:endCxn id="47" idx="1"/>
          </p:cNvCxnSpPr>
          <p:nvPr/>
        </p:nvCxnSpPr>
        <p:spPr>
          <a:xfrm>
            <a:off x="1676520" y="732600"/>
            <a:ext cx="457560" cy="20008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Łącznik prosty ze strzałką 20"/>
          <p:cNvCxnSpPr/>
          <p:nvPr/>
        </p:nvCxnSpPr>
        <p:spPr>
          <a:xfrm>
            <a:off x="1641960" y="2000160"/>
            <a:ext cx="500760" cy="1858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9" name="Łącznik prosty ze strzałką 22"/>
          <p:cNvCxnSpPr>
            <a:endCxn id="46" idx="1"/>
          </p:cNvCxnSpPr>
          <p:nvPr/>
        </p:nvCxnSpPr>
        <p:spPr>
          <a:xfrm flipV="1">
            <a:off x="1642680" y="1818360"/>
            <a:ext cx="491400" cy="10396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0" name="Łącznik prosty ze strzałką 24"/>
          <p:cNvCxnSpPr>
            <a:stCxn id="41" idx="3"/>
          </p:cNvCxnSpPr>
          <p:nvPr/>
        </p:nvCxnSpPr>
        <p:spPr>
          <a:xfrm flipV="1">
            <a:off x="1676520" y="785160"/>
            <a:ext cx="396000" cy="28339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1:22:13Z</dcterms:created>
  <dc:creator>Gemma Young</dc:creator>
  <dc:description/>
  <dc:language>en-US</dc:language>
  <cp:lastModifiedBy>oskar jaskiewicz</cp:lastModifiedBy>
  <dcterms:modified xsi:type="dcterms:W3CDTF">2014-08-20T06:35:57Z</dcterms:modified>
  <cp:revision>5</cp:revision>
  <dc:subject/>
  <dc:title>PowerPoint Presentation</dc:title>
</cp:coreProperties>
</file>